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EEB-092B-48E3-9026-88F1E30E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F354-8337-48B8-B021-34260523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0ED-AAA9-458E-A906-FE9E523D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5E23-A17A-470B-93B6-724C3701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BD6-5846-4A99-A353-4E9950EC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4F6-F7D9-4685-BDB4-B530694C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D63D-5981-4F84-864D-F3713D79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B7B9-1719-4F16-9FEF-D5CD56BC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5988-857D-40AB-84DB-B14AB0B1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D0A7-BEA5-4F2E-BC39-F92E7A2E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AF7-0973-400C-B10D-8E7F4EE3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12B2-CBFD-4C96-8E43-33C26AF5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16F5-4106-49F3-A812-6D1E251A0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3327480" cy="4005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973080" y="1341360"/>
            <a:ext cx="968544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0" spc="-1" strike="noStrike">
                <a:solidFill>
                  <a:srgbClr val="993366"/>
                </a:solidFill>
                <a:latin typeface="Comic Sans MS"/>
              </a:rPr>
              <a:t>Est-ce que je peux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3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453360"/>
          </a:xfrm>
          <a:prstGeom prst="ellipse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54936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9900"/>
                </a:solidFill>
                <a:latin typeface="Comic Sans MS"/>
              </a:rPr>
              <a:t>être</a:t>
            </a: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 volontair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09800" y="3186000"/>
            <a:ext cx="7810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9900"/>
                </a:solidFill>
                <a:latin typeface="Comic Sans MS"/>
              </a:rPr>
              <a:t>ouvrir/fermer</a:t>
            </a: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8000" spc="-1" strike="noStrike">
                <a:solidFill>
                  <a:srgbClr val="ff0000"/>
                </a:solidFill>
                <a:latin typeface="Comic Sans MS"/>
              </a:rPr>
              <a:t>la</a:t>
            </a: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 fenêtr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84720" y="4292640"/>
            <a:ext cx="2016360" cy="1423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6560" y="216000"/>
            <a:ext cx="7777440" cy="2133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2560" y="3141720"/>
            <a:ext cx="7777080" cy="2735280"/>
          </a:xfrm>
          <a:prstGeom prst="wedgeRoundRectCallout">
            <a:avLst>
              <a:gd name="adj1" fmla="val -47736"/>
              <a:gd name="adj2" fmla="val 77509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0360" y="260280"/>
            <a:ext cx="82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9900"/>
                </a:solidFill>
                <a:latin typeface="Comic Sans MS"/>
              </a:rPr>
              <a:t>parler</a:t>
            </a: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 en angla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000" y="3068640"/>
            <a:ext cx="82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9900"/>
                </a:solidFill>
                <a:latin typeface="Comic Sans MS"/>
              </a:rPr>
              <a:t>distribu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30560" y="1284120"/>
            <a:ext cx="2378160" cy="1327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843280" y="4359240"/>
            <a:ext cx="2808360" cy="1878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6560" y="260280"/>
            <a:ext cx="8282160" cy="2448000"/>
          </a:xfrm>
          <a:prstGeom prst="wedgeRoundRectCallout">
            <a:avLst>
              <a:gd name="adj1" fmla="val -47527"/>
              <a:gd name="adj2" fmla="val 70685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213000"/>
            <a:ext cx="7777440" cy="3024360"/>
          </a:xfrm>
          <a:prstGeom prst="wedgeRoundRectCallout">
            <a:avLst>
              <a:gd name="adj1" fmla="val -50981"/>
              <a:gd name="adj2" fmla="val 61601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431640" y="880920"/>
            <a:ext cx="82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9900"/>
                </a:solidFill>
                <a:latin typeface="Comic Sans MS"/>
              </a:rPr>
              <a:t>avoir</a:t>
            </a: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 un poi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068640"/>
            <a:ext cx="907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9900"/>
                </a:solidFill>
                <a:latin typeface="Comic Sans MS"/>
              </a:rPr>
              <a:t>aller</a:t>
            </a: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 aux toilett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78400" y="4149720"/>
            <a:ext cx="885600" cy="158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77080" y="647640"/>
            <a:ext cx="1871640" cy="141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4000" y="216000"/>
            <a:ext cx="8424720" cy="2133360"/>
          </a:xfrm>
          <a:prstGeom prst="wedgeRoundRectCallout">
            <a:avLst>
              <a:gd name="adj1" fmla="val -42537"/>
              <a:gd name="adj2" fmla="val 70013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852640"/>
            <a:ext cx="8713800" cy="3024360"/>
          </a:xfrm>
          <a:prstGeom prst="wedgeRoundRectCallout">
            <a:avLst>
              <a:gd name="adj1" fmla="val -50018"/>
              <a:gd name="adj2" fmla="val 66796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19640" y="260280"/>
            <a:ext cx="558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cc"/>
                </a:solidFill>
                <a:latin typeface="Comic Sans MS"/>
              </a:rPr>
              <a:t>un</a:t>
            </a: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 cahi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Comic Sans MS"/>
              </a:rPr>
              <a:t>une</a:t>
            </a: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 feuill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cc"/>
                </a:solidFill>
                <a:latin typeface="Comic Sans MS"/>
              </a:rPr>
              <a:t>un</a:t>
            </a: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 styl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1480" y="1628640"/>
            <a:ext cx="320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9900"/>
                </a:solidFill>
                <a:latin typeface="Comic Sans MS"/>
              </a:rPr>
              <a:t>avoi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327720" y="4941720"/>
            <a:ext cx="838080" cy="1209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00440" y="4826160"/>
            <a:ext cx="3206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9900"/>
                </a:solidFill>
                <a:latin typeface="Comic Sans MS"/>
              </a:rPr>
              <a:t>boi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6560" y="216000"/>
            <a:ext cx="8066160" cy="3860640"/>
          </a:xfrm>
          <a:prstGeom prst="wedgeRoundRectCallout">
            <a:avLst>
              <a:gd name="adj1" fmla="val -49388"/>
              <a:gd name="adj2" fmla="val 62625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4390920"/>
            <a:ext cx="5904000" cy="2133720"/>
          </a:xfrm>
          <a:prstGeom prst="wedgeRoundRectCallout">
            <a:avLst>
              <a:gd name="adj1" fmla="val -67800"/>
              <a:gd name="adj2" fmla="val 40995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190440"/>
            <a:ext cx="8642160" cy="309564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-27000"/>
            <a:ext cx="76312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cc"/>
                </a:solidFill>
                <a:latin typeface="Comic Sans MS"/>
              </a:rPr>
              <a:t>parce que</a:t>
            </a: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 je suis…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430440"/>
            <a:ext cx="8569080" cy="3311640"/>
          </a:xfrm>
          <a:prstGeom prst="ellipse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5080" y="3430440"/>
            <a:ext cx="76312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cc"/>
                </a:solidFill>
                <a:latin typeface="Comic Sans MS"/>
              </a:rPr>
              <a:t>parce que</a:t>
            </a: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 j’</a:t>
            </a:r>
            <a:r>
              <a:rPr b="1" lang="en-GB" sz="10000" spc="-1" strike="noStrike">
                <a:solidFill>
                  <a:srgbClr val="cc3399"/>
                </a:solidFill>
                <a:latin typeface="Comic Sans MS"/>
              </a:rPr>
              <a:t>ai</a:t>
            </a: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00000" y="0"/>
            <a:ext cx="7489800" cy="2016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fantastiqu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2060640"/>
            <a:ext cx="7489800" cy="1944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intelligent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(e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4076640"/>
            <a:ext cx="7490160" cy="2781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travaill</a:t>
            </a:r>
            <a:r>
              <a:rPr b="0" lang="en-GB" sz="9600" spc="-1" strike="noStrike">
                <a:solidFill>
                  <a:srgbClr val="0000cc"/>
                </a:solidFill>
                <a:latin typeface="Comic Sans MS"/>
              </a:rPr>
              <a:t>eu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travaill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eu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5280" y="2278080"/>
            <a:ext cx="7994520" cy="2016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bien particip</a:t>
            </a:r>
            <a:r>
              <a:rPr b="0" lang="en-GB" sz="9600" spc="-1" strike="noStrike">
                <a:solidFill>
                  <a:srgbClr val="cc3399"/>
                </a:solidFill>
                <a:latin typeface="Comic Sans MS"/>
              </a:rPr>
              <a:t>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437000"/>
            <a:ext cx="7994520" cy="2016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lev</a:t>
            </a:r>
            <a:r>
              <a:rPr b="0" lang="en-GB" sz="9600" spc="-1" strike="noStrike">
                <a:solidFill>
                  <a:srgbClr val="cc3399"/>
                </a:solidFill>
                <a:latin typeface="Comic Sans MS"/>
              </a:rPr>
              <a:t>é</a:t>
            </a: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 la ma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44360"/>
            <a:ext cx="7994520" cy="2016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bien travaill</a:t>
            </a:r>
            <a:r>
              <a:rPr b="0" lang="en-GB" sz="9600" spc="-1" strike="noStrike">
                <a:solidFill>
                  <a:srgbClr val="cc3399"/>
                </a:solidFill>
                <a:latin typeface="Comic Sans MS"/>
              </a:rPr>
              <a:t>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44280"/>
            <a:ext cx="8064360" cy="331164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5080" y="144360"/>
            <a:ext cx="76312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parce que c’est…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2560" y="3429000"/>
            <a:ext cx="7489800" cy="1655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compliqu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2560" y="5229360"/>
            <a:ext cx="748980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nécessai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2:21:48Z</dcterms:created>
  <dc:creator>llegal</dc:creator>
  <dc:description/>
  <dc:language>en-US</dc:language>
  <cp:lastModifiedBy> </cp:lastModifiedBy>
  <dcterms:modified xsi:type="dcterms:W3CDTF">2010-01-31T06:52:59Z</dcterms:modified>
  <cp:revision>9</cp:revision>
  <dc:subject/>
  <dc:title>Slide 1</dc:title>
</cp:coreProperties>
</file>